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628-EAF8-4BD8-94D3-31269619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7A16-33C1-4390-9D7F-A828E8A42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l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 teachers about bring an EDI lesson with clear objectives an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i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have a note pad for each table in addition to othe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n’t have time, should we change this to pair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3B20-C35B-4CA9-B692-8CE0006B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e example and n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DE8C-7976-4052-A2D7-12C29BA1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ob alik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D8C-7F63-4FB3-B270-37ADA7B2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28D-FEAA-4EBC-8B36-B688FBDE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should not talk through the components of the model (Boring). Have the staff conduct a  table talk about the main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“At your table, define and give examples of each of the component.” Do an informal sharing and relate to what presenter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mponents in direct instruction phase, not a check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is performed throughout to verify students have learned what was taught while it was being ta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 – must be done before Jan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813-390A-49D8-935C-E77536E6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62C-CF3A-460A-8607-384FD433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vision - What is good te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rhythm - common sets of best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dividualism  at the same time, reduce variance to ensure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B66-8C90-43D8-BBBA-A379DAEBC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D36-17BC-475B-91B0-D6F18119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t the target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52E1-9586-41F9-843B-6E51D175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eacher will bring a lesson with EDI framework and clear learning tar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to model to make the direction very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911-F599-46AC-8FA2-341CF9BD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9E8-12E8-429A-8275-4EC78085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- Pair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Quadrant A, B, C and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is in Quadrant A.  Throughout the workshop, we will ask participants to connect learning to scenarios in model lessons, which is quadrant B or C.  Our goal, however, is that all teachers will be able to implement them in the authentic settings and reflect their use with mentors and administrators.  This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 when the iceberg model is used, we should relate to Quadrant A- D again.  Tip of iceberg is Quadrant A, but the deeper side of our learning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share – how does this match what we have learned so far (EDI, 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AC0-1D11-4043-AE0C-52151369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2698-6260-41A8-805D-C6265130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0F3-2454-4EE1-89EE-D0D36BF1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B01-FC2E-4B79-AA32-66C792A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A68-2327-4D55-AA95-ABB4512D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474-7B96-47B9-8C72-E39CAE4E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981-064E-480F-8A9D-AC989AAC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2D6-4782-4E61-83AB-CF83B61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5DF-4C92-405B-998A-C960C521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FEC0-0091-4D9A-A3F3-18B78F09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3166-C7DD-4CF0-9A42-BD3E67E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5E25-3FD7-4F9C-9C38-8D165E1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DE19-66BC-4118-83B2-5545690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929-BE0A-4FD1-A119-BC0DEB7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A087-360E-485E-B52F-CE04068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0F57-E3FA-4651-A0CD-10A4460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AE3-C6B3-4907-8C03-5D3CCCE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8151-F18F-4435-A645-5E1D8763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14A-9508-4A0C-B773-4B83B536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A6F2-2F5F-467C-8410-C584AF69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D878-52B6-4E1E-A82B-ECB17501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8A40-4A02-4D12-B68E-FE781553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BA31-62A7-43AD-B4F8-6576EA6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BD04-8DD9-461D-A0E2-715EAA2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152-56E6-42E3-873A-335A418B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9A17-6E20-4E17-9615-F8B4DC9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69B8-A1F0-40CB-BA55-AE9E949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67A2-937F-4CFB-A217-0E1583F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F1B4-D792-4FFB-9E06-F9307DE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8605-2D08-4F01-B17F-5C4808E5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72EC-C629-49EB-8917-A5D4F9B9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ADD4-CE73-4F4C-AD58-2DA9C86F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AD6A-52B7-4E4E-8B8E-9F1CB764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7646-170C-4A1C-A624-208E2A9C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55E1-80BC-43B3-9470-3731849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0BC-1CDE-4569-A7BA-93FF5CAB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72E9-70AB-4957-A8C9-0416F477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C966-2312-4484-87A5-C5BD151E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5D56-D4CE-4ACF-B2B4-C40268F0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8F3A-B64E-4F1E-954D-648EEFBC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7B31-69ED-4EC4-BF65-3F83168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71ED-FE5B-4DA1-A43C-55A4706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A606-601F-43A4-909B-D1578400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1CFC-D075-4907-809F-29F65AB8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CCE2-7195-494E-8DCF-6EADD50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F4A-DF8F-476C-A518-4194717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1C4-D05F-4F5C-A0E7-1DBB832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DF5-E814-4542-ACB1-90A95EF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AFD-DBE0-4C69-AFB9-983040F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77-9AF8-4914-8CBE-556EF43B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A05-1AEE-44A2-8CEC-3236A4EB993B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30A7-B4A7-4314-9A29-EE689E104499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F88-2D85-47E5-B057-CC94F6FB8BCF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D68-A388-4732-98FD-4037A38A2F57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8217000" cy="1841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w Teacher Learning Se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30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the clear learning target drive the process of unit/lesson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other decisions were made during the designing proces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Expand Skill Statements to Scaffold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6" descr="C:\Users\ychen\AppData\Local\Microsoft\Windows\Temporary Internet Files\Content.IE5\TGIQTVR5\MCj0295859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52941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Guided Practic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should be no bigger than 4 per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 facilitator, a recorder and a reporter. (If only two, share the ro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and the skill statements to scaffol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 the learning target in mi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k about where your students 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ways push to the highest level of cognitive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ublic Shar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both non-expanded and expa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 a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990720" y="380880"/>
            <a:ext cx="6933960" cy="61722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1828800" y="1143000"/>
            <a:ext cx="5334120" cy="4648320"/>
            <a:chOff x="1828800" y="1143000"/>
            <a:chExt cx="5334120" cy="4648320"/>
          </a:xfrm>
        </p:grpSpPr>
        <p:sp>
          <p:nvSpPr>
            <p:cNvPr id="246" name="Oval 4"/>
            <p:cNvSpPr/>
            <p:nvPr/>
          </p:nvSpPr>
          <p:spPr>
            <a:xfrm>
              <a:off x="1828800" y="1143000"/>
              <a:ext cx="5334120" cy="46483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4952880" y="1752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5867280" y="25146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review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5867280" y="3581280"/>
              <a:ext cx="1295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Expla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Mode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Demons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4952880" y="472428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Guided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3733920" y="49528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3048120" y="1752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Mast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2438280" y="22860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eriodic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2209680" y="3352680"/>
              <a:ext cx="838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Daily su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2209680" y="4191120"/>
              <a:ext cx="129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Independent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Oval 14"/>
          <p:cNvSpPr/>
          <p:nvPr/>
        </p:nvSpPr>
        <p:spPr>
          <a:xfrm>
            <a:off x="3048120" y="2209680"/>
            <a:ext cx="2895480" cy="259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udents know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do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 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instr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WordArt 15"/>
          <p:cNvSpPr txBox="1"/>
          <p:nvPr/>
        </p:nvSpPr>
        <p:spPr>
          <a:xfrm rot="4286400">
            <a:off x="2017800" y="840240"/>
            <a:ext cx="5426280" cy="528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9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active - CFU, Effective feedback, cues and promp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8" name="WordArt 16"/>
          <p:cNvSpPr txBox="1"/>
          <p:nvPr/>
        </p:nvSpPr>
        <p:spPr>
          <a:xfrm rot="16610400">
            <a:off x="699840" y="1966320"/>
            <a:ext cx="446724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active - Effective feed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9" name="Line 17"/>
          <p:cNvSpPr/>
          <p:nvPr/>
        </p:nvSpPr>
        <p:spPr>
          <a:xfrm flipV="1">
            <a:off x="4419720" y="380520"/>
            <a:ext cx="0" cy="175284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743200" y="4572000"/>
            <a:ext cx="990720" cy="152388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7391520" y="5508720"/>
            <a:ext cx="1752480" cy="1631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Demo Less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observation on the EDI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y special attentio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 to “UBD” and “clear learning target”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idence of scaffolding toward the culminat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ed CFU/assessment strategies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C:\Users\ychen\AppData\Local\Microsoft\Windows\Temporary Internet Files\Content.IE5\692I7KWA\MPj04385850000[1].jpg"/>
          <p:cNvPicPr/>
          <p:nvPr/>
        </p:nvPicPr>
        <p:blipFill>
          <a:blip r:embed="rId1"/>
          <a:stretch/>
        </p:blipFill>
        <p:spPr>
          <a:xfrm>
            <a:off x="-6480" y="858960"/>
            <a:ext cx="9156960" cy="6005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e all the words below to formulate your line of learning: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lear target/Learning objec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D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and skills/Scaff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FU/V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e of Learning – What does understand by design mean to you?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Reciprocity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59"/>
                </a:solidFill>
                <a:latin typeface="Constantia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expanded skill statements in  unit maps and in lesson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ribute one or two skill statements to new teacher Wiki p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bed previous learning including EDI, CFU and LO with clear targets in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59"/>
                </a:solidFill>
                <a:latin typeface="Constantia"/>
              </a:rPr>
              <a:t>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serve from Learning Labs with purposeful refl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tor/partner and principal co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CCSD</a:t>
            </a:r>
            <a:br>
              <a:rPr sz="4500"/>
            </a:b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Mentor/Induction System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0" name="Picture 5" descr="LRO040"/>
          <p:cNvPicPr/>
          <p:nvPr/>
        </p:nvPicPr>
        <p:blipFill>
          <a:blip r:embed="rId1"/>
          <a:stretch/>
        </p:blipFill>
        <p:spPr>
          <a:xfrm>
            <a:off x="3097080" y="1828800"/>
            <a:ext cx="3264120" cy="36576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6553080" y="2362320"/>
            <a:ext cx="175284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85800" y="2438280"/>
            <a:ext cx="2286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5638680"/>
            <a:ext cx="16002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762120" y="4114800"/>
            <a:ext cx="190476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acher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553080" y="4114800"/>
            <a:ext cx="190512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Work with your principal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next workshop - Be prepared to bring a designed unit (map) and a lesson using the unit/lesson design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UBD/EDI concept reflected in plan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panded skill statements in map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lear learning objectives/targets in lesson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Planned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FU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Users\ychen\AppData\Local\Microsoft\Windows\Temporary Internet Files\Content.IE5\IH9HTN6R\MCj04079540000[1].wmf"/>
          <p:cNvPicPr/>
          <p:nvPr/>
        </p:nvPicPr>
        <p:blipFill>
          <a:blip r:embed="rId1"/>
          <a:stretch/>
        </p:blipFill>
        <p:spPr>
          <a:xfrm>
            <a:off x="3651120" y="2620800"/>
            <a:ext cx="1841760" cy="1616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ychen\AppData\Local\Microsoft\Windows\Temporary Internet Files\Content.IE5\IH9HTN6R\MCj04079540000[1].wmf"/>
          <p:cNvPicPr/>
          <p:nvPr/>
        </p:nvPicPr>
        <p:blipFill>
          <a:blip r:embed="rId2"/>
          <a:stretch/>
        </p:blipFill>
        <p:spPr>
          <a:xfrm>
            <a:off x="1523880" y="754200"/>
            <a:ext cx="6400800" cy="56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4"/>
          <p:cNvSpPr/>
          <p:nvPr/>
        </p:nvSpPr>
        <p:spPr>
          <a:xfrm>
            <a:off x="1752480" y="762120"/>
            <a:ext cx="5727960" cy="5244840"/>
          </a:xfrm>
          <a:custGeom>
            <a:avLst/>
            <a:gdLst>
              <a:gd name="textAreaLeft" fmla="*/ 0 w 5727960"/>
              <a:gd name="textAreaRight" fmla="*/ 5728320 w 572796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3608" h="3304">
                <a:moveTo>
                  <a:pt x="0" y="2752"/>
                </a:moveTo>
                <a:cubicBezTo>
                  <a:pt x="468" y="1376"/>
                  <a:pt x="936" y="0"/>
                  <a:pt x="1488" y="16"/>
                </a:cubicBezTo>
                <a:cubicBezTo>
                  <a:pt x="2040" y="32"/>
                  <a:pt x="3016" y="2392"/>
                  <a:pt x="3312" y="2848"/>
                </a:cubicBezTo>
                <a:cubicBezTo>
                  <a:pt x="3608" y="3304"/>
                  <a:pt x="3264" y="2752"/>
                  <a:pt x="3264" y="2752"/>
                </a:cubicBezTo>
                <a:cubicBezTo>
                  <a:pt x="3264" y="2752"/>
                  <a:pt x="3304" y="2832"/>
                  <a:pt x="3312" y="28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9528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057400" y="4343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ic, purposeful, integrated, thoughtful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ext New Teacher Learning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mber 7 on a PL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-6: 7:30 – 10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-12: 12:30 – 3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ticle to deepen your understanding about “Backward Desig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ounded Rectangle 5"/>
          <p:cNvSpPr/>
          <p:nvPr/>
        </p:nvSpPr>
        <p:spPr>
          <a:xfrm>
            <a:off x="5486400" y="13716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003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0" y="4495680"/>
            <a:ext cx="3048120" cy="198144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048120" y="4419720"/>
            <a:ext cx="3047760" cy="198108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6095880" y="4419720"/>
            <a:ext cx="3048120" cy="1904760"/>
          </a:xfrm>
          <a:prstGeom prst="ellipse">
            <a:avLst/>
          </a:pr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Donut 11"/>
          <p:cNvSpPr/>
          <p:nvPr/>
        </p:nvSpPr>
        <p:spPr>
          <a:xfrm>
            <a:off x="457200" y="762120"/>
            <a:ext cx="3276720" cy="3124080"/>
          </a:xfrm>
          <a:custGeom>
            <a:avLst/>
            <a:gdLst>
              <a:gd name="textAreaLeft" fmla="*/ 479880 w 3276720"/>
              <a:gd name="textAreaRight" fmla="*/ 2796840 w 3276720"/>
              <a:gd name="textAreaTop" fmla="*/ 457560 h 3124080"/>
              <a:gd name="textAreaBottom" fmla="*/ 2666520 h 3124080"/>
            </a:gdLst>
            <a:ahLst/>
            <a:rect l="textAreaLeft" t="textAreaTop" r="textAreaRight" b="textAreaBottom"/>
            <a:pathLst>
              <a:path w="3276600" h="3124200">
                <a:moveTo>
                  <a:pt x="0" y="1562100"/>
                </a:moveTo>
                <a:lnTo>
                  <a:pt x="0" y="1562100"/>
                </a:lnTo>
                <a:arcTo wR="1638300" hR="1562100" stAng="-10799996" swAng="5400002"/>
                <a:lnTo>
                  <a:pt x="1638303" y="2"/>
                </a:lnTo>
                <a:arcTo wR="1638300" hR="1562100" stAng="-5399996" swAng="5400002"/>
                <a:lnTo>
                  <a:pt x="3276601" y="1562105"/>
                </a:lnTo>
                <a:arcTo wR="1638300" hR="1562100" stAng="0" swAng="5400002"/>
                <a:lnTo>
                  <a:pt x="1638300" y="3124205"/>
                </a:lnTo>
                <a:arcTo wR="1638300" hR="1562100" stAng="5400002" swAng="5400002"/>
                <a:close/>
                <a:moveTo>
                  <a:pt x="781050" y="1562100"/>
                </a:moveTo>
                <a:lnTo>
                  <a:pt x="781050" y="1562100"/>
                </a:lnTo>
                <a:arcTo wR="857250" hR="781050" stAng="-10799996" swAng="-5400000"/>
                <a:lnTo>
                  <a:pt x="1638299" y="2343151"/>
                </a:lnTo>
                <a:arcTo wR="857250" hR="781050" stAng="5400000" swAng="-5400000"/>
                <a:lnTo>
                  <a:pt x="2495549" y="1562101"/>
                </a:lnTo>
                <a:arcTo wR="857250" hR="781050" stAng="0" swAng="-5400000"/>
                <a:lnTo>
                  <a:pt x="1638299" y="781051"/>
                </a:lnTo>
                <a:arcTo wR="857250" hR="781050" stAng="-5399996" swAng="-5400000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152388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ounded Rectangle 14"/>
          <p:cNvSpPr/>
          <p:nvPr/>
        </p:nvSpPr>
        <p:spPr>
          <a:xfrm>
            <a:off x="2819520" y="13716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3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ight Arrow 15"/>
          <p:cNvSpPr/>
          <p:nvPr/>
        </p:nvSpPr>
        <p:spPr>
          <a:xfrm>
            <a:off x="3886200" y="1523880"/>
            <a:ext cx="1295280" cy="60984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17"/>
          <p:cNvCxnSpPr/>
          <p:nvPr/>
        </p:nvCxnSpPr>
        <p:spPr>
          <a:xfrm flipH="1">
            <a:off x="2437920" y="3351600"/>
            <a:ext cx="3201120" cy="129636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  <p:cxnSp>
        <p:nvCxnSpPr>
          <p:cNvPr id="215" name="Straight Arrow Connector 18"/>
          <p:cNvCxnSpPr>
            <a:endCxn id="208" idx="7"/>
          </p:cNvCxnSpPr>
          <p:nvPr/>
        </p:nvCxnSpPr>
        <p:spPr>
          <a:xfrm flipH="1">
            <a:off x="5649480" y="3504240"/>
            <a:ext cx="1285200" cy="120564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  <p:cxnSp>
        <p:nvCxnSpPr>
          <p:cNvPr id="216" name="Straight Arrow Connector 19"/>
          <p:cNvCxnSpPr/>
          <p:nvPr/>
        </p:nvCxnSpPr>
        <p:spPr>
          <a:xfrm>
            <a:off x="7772400" y="3657600"/>
            <a:ext cx="76680" cy="838800"/>
          </a:xfrm>
          <a:prstGeom prst="straightConnector1">
            <a:avLst/>
          </a:prstGeom>
          <a:ln w="76320">
            <a:solidFill>
              <a:srgbClr val="be2465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review and Review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light the learning targets in your les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the three components in a learning obj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id your students do with this lesson? How do you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 coach (Choose to do either or both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ain why the learning objective was clear to your students and how it helped them lear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e to make it even more clear to enhance learn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Objectives of Today</a:t>
            </a: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s PL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6761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onnect 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research to curriculum desig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Recognize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 how the curriculum tool enhances lesson plan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dentify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EDI components and learning targets from a model less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rite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clear learning targets and expanded  skill statements </a:t>
            </a:r>
            <a:r>
              <a:rPr b="0" lang="en-US" sz="3600" spc="-1" strike="noStrike">
                <a:solidFill>
                  <a:srgbClr val="00349e"/>
                </a:solidFill>
                <a:latin typeface="Constantia"/>
              </a:rPr>
              <a:t>in lesson units and pla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2"/>
          <p:cNvSpPr/>
          <p:nvPr/>
        </p:nvSpPr>
        <p:spPr>
          <a:xfrm>
            <a:off x="380880" y="304920"/>
            <a:ext cx="297180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dentify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5638680" y="2819520"/>
            <a:ext cx="312444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lan Learning Experiences &amp;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2971800" y="1676520"/>
            <a:ext cx="2971800" cy="2514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cceptabl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Rectangle 8" descr=""/>
          <p:cNvPicPr/>
          <p:nvPr/>
        </p:nvPicPr>
        <p:blipFill>
          <a:blip r:embed="rId1"/>
          <a:stretch/>
        </p:blipFill>
        <p:spPr>
          <a:xfrm>
            <a:off x="219240" y="5181480"/>
            <a:ext cx="8791560" cy="1468440"/>
          </a:xfrm>
          <a:prstGeom prst="rect">
            <a:avLst/>
          </a:prstGeom>
          <a:ln w="0">
            <a:noFill/>
          </a:ln>
        </p:spPr>
      </p:pic>
      <p:sp>
        <p:nvSpPr>
          <p:cNvPr id="225" name="Curved Down Arrow 12"/>
          <p:cNvSpPr/>
          <p:nvPr/>
        </p:nvSpPr>
        <p:spPr>
          <a:xfrm>
            <a:off x="3505320" y="91440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urved Down Arrow 13"/>
          <p:cNvSpPr/>
          <p:nvPr/>
        </p:nvSpPr>
        <p:spPr>
          <a:xfrm>
            <a:off x="5943600" y="198108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Begin With the End in Mind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reating Clear Learning Targe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highlight key 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/B Partners - Partner A summarizes and B adds; reverse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to Line of Learning - How do clear learning targets relate to the concept of Backward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ot by default, but by design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aptured in the map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to teachers’ curriculum m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ing Ying Chen</dc:creator>
  <dc:description/>
  <dc:language>en-US</dc:language>
  <cp:lastModifiedBy>ychen</cp:lastModifiedBy>
  <dcterms:modified xsi:type="dcterms:W3CDTF">2009-10-23T03:20:24Z</dcterms:modified>
  <cp:revision>109</cp:revision>
  <dc:subject/>
  <dc:title>An Overview/Review of the Explicit Direct Instruction Model</dc:title>
</cp:coreProperties>
</file>